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05C-E7CE-4E1A-B956-846E91B562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ly CTesK and J@T are very close to each other. M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caused by difference betwee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ava language and difference between procedural and object-oriented program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you see, CTesK, like J@T, sup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 invatia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 and post-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pace partition (coverage stat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st scenarios in CTesK are very similar to J@T test sce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 of UniTesK method. Why it was developed, what problems it is to 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E4A4-48DA-4EC4-9E69-770142D1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E339-9A65-4C7C-8AC3-8FDE9E40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761F-F5EB-42B5-9838-CE5E03BD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7367-C5C3-48FD-9525-E6F39D03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2805-7513-4A09-9ED5-998D40CF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D820-2242-45C5-B657-A5B5BDB5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29AB-95DF-47D3-9D1E-A8409484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010D-43DB-485D-8DEC-4178809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442-246F-42F5-A9D7-C3D7D93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281B-FC09-4EE7-8387-86A2E51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DBD7-4A54-45D1-93C2-95C1DDB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5A59-4F7B-4AB7-BADA-202F4042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5AA-70EA-435A-8EC7-93FAFCE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3B8A-39F0-4FD9-8A2F-F472B5A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6339-8208-4D69-B697-18BE97C2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0702-3962-4DD4-BB2C-2F11D1E8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456-FA05-4515-9C75-600A704E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0183-E737-4319-9B80-4334089A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5942-F11C-4AAD-A0A7-647EC73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F45E-8C3B-444D-9BA7-E5FF2BE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9E74-A004-48B3-BE45-5EC0CB4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76C3-50A2-4368-B7EA-0A0EE0C7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34E9-651D-4035-AAAB-89948DA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A45B-A2DA-4A00-BFFD-17E3B19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3000"/>
            <a:ext cx="285840" cy="21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2B7C-187F-4E68-BA14-CE95CEBF62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5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12920" y="6165720"/>
            <a:ext cx="873108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45960" y="6165720"/>
            <a:ext cx="71640" cy="716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79360" y="6093000"/>
            <a:ext cx="71640" cy="71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79360" y="6165720"/>
            <a:ext cx="71640" cy="71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52440" y="6237360"/>
            <a:ext cx="71280" cy="71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08080" y="6165720"/>
            <a:ext cx="71280" cy="71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08080" y="6094440"/>
            <a:ext cx="71280" cy="71280"/>
          </a:xfrm>
          <a:prstGeom prst="rect">
            <a:avLst/>
          </a:prstGeom>
          <a:solidFill>
            <a:srgbClr val="f2f2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79360" y="6237360"/>
            <a:ext cx="71640" cy="71280"/>
          </a:xfrm>
          <a:prstGeom prst="rect">
            <a:avLst/>
          </a:prstGeom>
          <a:solidFill>
            <a:srgbClr val="f2f2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775-BE4E-442E-AD82-C91EB05B06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ispras.ru/~RedVerst/" TargetMode="External"/><Relationship Id="rId2" Type="http://schemas.openxmlformats.org/officeDocument/2006/relationships/hyperlink" Target="http://www.ispras.ru/~RedVerst/" TargetMode="External"/><Relationship Id="rId3" Type="http://schemas.openxmlformats.org/officeDocument/2006/relationships/hyperlink" Target="http://www.ispras.ru/~RedVerst/" TargetMode="External"/><Relationship Id="rId4" Type="http://schemas.openxmlformats.org/officeDocument/2006/relationships/hyperlink" Target="http://www.ispras.ru/~RedVerst/" TargetMode="External"/><Relationship Id="rId5" Type="http://schemas.openxmlformats.org/officeDocument/2006/relationships/hyperlink" Target="http://www.ispras.ru/~RedVerst/" TargetMode="External"/><Relationship Id="rId6" Type="http://schemas.openxmlformats.org/officeDocument/2006/relationships/hyperlink" Target="http://www.ispras.ru/~RedVerst/" TargetMode="External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niTesK: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del Based Testing in Industrial Practi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76360" y="4266720"/>
            <a:ext cx="39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ctor Kulia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xander Petren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Kossat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or Burdo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653000"/>
            <a:ext cx="4643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for System Progra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cow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K Tes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43240" y="3708360"/>
            <a:ext cx="1296720" cy="1868040"/>
            <a:chOff x="2343240" y="3708360"/>
            <a:chExt cx="1296720" cy="1868040"/>
          </a:xfrm>
        </p:grpSpPr>
        <p:sp>
          <p:nvSpPr>
            <p:cNvPr id="239" name=""/>
            <p:cNvSpPr/>
            <p:nvPr/>
          </p:nvSpPr>
          <p:spPr>
            <a:xfrm>
              <a:off x="2987280" y="370836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3240" y="4355640"/>
              <a:ext cx="12967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40" idx="2"/>
              <a:endCxn id="242" idx="0"/>
            </p:cNvCxnSpPr>
            <p:nvPr/>
          </p:nvCxnSpPr>
          <p:spPr>
            <a:xfrm>
              <a:off x="2991960" y="5003280"/>
              <a:ext cx="1080" cy="57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3" name=""/>
          <p:cNvSpPr/>
          <p:nvPr/>
        </p:nvSpPr>
        <p:spPr>
          <a:xfrm>
            <a:off x="1365120" y="1844640"/>
            <a:ext cx="3240360" cy="18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ction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3063240"/>
            <a:ext cx="187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ction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3240" y="5580720"/>
            <a:ext cx="1296720" cy="6426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und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3240" y="2196360"/>
            <a:ext cx="1296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17600" y="3063240"/>
            <a:ext cx="1549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ction It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45" idx="2"/>
            <a:endCxn id="246" idx="0"/>
          </p:cNvCxnSpPr>
          <p:nvPr/>
        </p:nvCxnSpPr>
        <p:spPr>
          <a:xfrm>
            <a:off x="2991960" y="2843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487840" y="3851280"/>
            <a:ext cx="154944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84560" y="39225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19920" y="4395960"/>
            <a:ext cx="1258560" cy="753840"/>
            <a:chOff x="619920" y="4395960"/>
            <a:chExt cx="1258560" cy="753840"/>
          </a:xfrm>
        </p:grpSpPr>
        <p:sp>
          <p:nvSpPr>
            <p:cNvPr id="251" name=""/>
            <p:cNvSpPr/>
            <p:nvPr/>
          </p:nvSpPr>
          <p:spPr>
            <a:xfrm>
              <a:off x="1042920" y="4540320"/>
              <a:ext cx="432000" cy="28692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7280" y="46846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27280" y="468468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476360" y="468468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8920" y="439596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9920" y="478152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05880" y="47815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92360" y="46846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51160" y="4500360"/>
            <a:ext cx="1297080" cy="1079280"/>
            <a:chOff x="2351160" y="4500360"/>
            <a:chExt cx="1297080" cy="1079280"/>
          </a:xfrm>
        </p:grpSpPr>
        <p:cxnSp>
          <p:nvCxnSpPr>
            <p:cNvPr id="260" name=""/>
            <p:cNvCxnSpPr>
              <a:stCxn id="261" idx="2"/>
            </p:cNvCxnSpPr>
            <p:nvPr/>
          </p:nvCxnSpPr>
          <p:spPr>
            <a:xfrm>
              <a:off x="3000240" y="5363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endCxn id="261" idx="0"/>
            </p:cNvCxnSpPr>
            <p:nvPr/>
          </p:nvCxnSpPr>
          <p:spPr>
            <a:xfrm>
              <a:off x="3000240" y="45003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>
              <a:off x="2351160" y="4716360"/>
              <a:ext cx="1297080" cy="64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508720" y="3059280"/>
            <a:ext cx="154944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105440" y="31305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05840" y="3924360"/>
            <a:ext cx="57780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5840" y="3132000"/>
            <a:ext cx="57600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99280" y="2989440"/>
            <a:ext cx="574920" cy="878760"/>
            <a:chOff x="899280" y="2989440"/>
            <a:chExt cx="574920" cy="878760"/>
          </a:xfrm>
        </p:grpSpPr>
        <p:sp>
          <p:nvSpPr>
            <p:cNvPr id="268" name=""/>
            <p:cNvSpPr/>
            <p:nvPr/>
          </p:nvSpPr>
          <p:spPr>
            <a:xfrm>
              <a:off x="1187280" y="3205080"/>
              <a:ext cx="0" cy="2160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87280" y="34923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42920" y="3211560"/>
              <a:ext cx="0" cy="216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1110240" y="2778120"/>
              <a:ext cx="152280" cy="57492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 rot="5400000">
              <a:off x="1110240" y="3504240"/>
              <a:ext cx="152280" cy="57492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32000" y="3500280"/>
              <a:ext cx="0" cy="2160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15237 L -2.77778E-006 -1.90751E-006 E">
                                      <p:cBhvr>
                                        <p:cTn id="43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02361 -0.10509 E">
                                      <p:cBhvr>
                                        <p:cTn id="441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439 L 0.00052 -0.0687 E">
                                      <p:cBhvr>
                                        <p:cTn id="458" dur="1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205E-006 L 0.00139 -0.08166 E">
                                      <p:cBhvr>
                                        <p:cTn id="46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Data Management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can be related as parent-subsid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an have only one parent, but may have several subsidi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ycles along parent-subsidiary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ent is removed, all its subsidiaries should b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: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ient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ent addCli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moveCli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ent cli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Subsidiar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ient cli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96360" y="170028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: Clien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pecification parent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HashSet children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HashS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invarian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ParentChil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k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par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 !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parent.children.contain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this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fals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Iterator j = children.iterator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j.hasNex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(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j.nex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par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this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fals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invarian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NoCyclesAlongLink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r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r = r.paren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r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this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fals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r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96360" y="170028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: addClient()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lient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specificatio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 addCli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String name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updates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containsKey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cannot be c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addClient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equal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ff"/>
                </a:solidFill>
                <a:latin typeface="Courier New"/>
              </a:rPr>
              <a:t>@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.clon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can be c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HashMap oldClients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.clon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oldClients.remov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addCli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addClient.name.equal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addClient.parent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addClient.children.isEmpty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g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== add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oldClients.equal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ff"/>
                </a:solidFill>
                <a:latin typeface="Courier New"/>
              </a:rPr>
              <a:t>@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.clon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96360" y="170028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 of UniTesK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sK Manif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sK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Coverage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75040" y="2179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92320" y="2854440"/>
            <a:ext cx="3096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2320" y="3286080"/>
            <a:ext cx="0" cy="72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536560" y="4013280"/>
            <a:ext cx="4842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2320" y="4013280"/>
            <a:ext cx="45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17560" y="4300560"/>
            <a:ext cx="253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bran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Single branc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64280" y="4975200"/>
            <a:ext cx="820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24360" y="33051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2720" y="1844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3080" y="5264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0040" y="2540160"/>
            <a:ext cx="1353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||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35280" y="2873520"/>
            <a:ext cx="2761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75040" y="4614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959280" y="2035080"/>
          <a:ext cx="4752720" cy="2763720"/>
        </p:xfrm>
        <a:graphic>
          <a:graphicData uri="http://schemas.openxmlformats.org/drawingml/2006/table">
            <a:tbl>
              <a:tblPr/>
              <a:tblGrid>
                <a:gridCol w="1260720"/>
                <a:gridCol w="591120"/>
                <a:gridCol w="1112400"/>
                <a:gridCol w="178848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branc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 || b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( a || b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a &amp;&amp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a &amp;&amp; !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3959280" y="2019240"/>
            <a:ext cx="1258920" cy="9050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0440" y="4290840"/>
            <a:ext cx="2527560" cy="307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bran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Single branc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24320" y="2017800"/>
            <a:ext cx="3488040" cy="904680"/>
          </a:xfrm>
          <a:prstGeom prst="rect">
            <a:avLst/>
          </a:prstGeom>
          <a:solidFill>
            <a:srgbClr val="cccc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1120" y="2311560"/>
            <a:ext cx="11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92200" y="2289240"/>
            <a:ext cx="17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gle bran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45920" y="4022640"/>
            <a:ext cx="48420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9280" y="3859200"/>
            <a:ext cx="1258920" cy="928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71800" y="416232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jun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22880" y="3859200"/>
            <a:ext cx="574560" cy="928800"/>
          </a:xfrm>
          <a:prstGeom prst="rect">
            <a:avLst/>
          </a:prstGeom>
          <a:solidFill>
            <a:srgbClr val="cccc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61040" y="41688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12000" y="3859200"/>
            <a:ext cx="1800360" cy="928800"/>
          </a:xfrm>
          <a:prstGeom prst="rect">
            <a:avLst/>
          </a:prstGeom>
          <a:solidFill>
            <a:srgbClr val="cccc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88040" y="41688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a &amp;&amp; !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9280" y="2922480"/>
            <a:ext cx="1258920" cy="928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9280" y="3222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18200" y="2919240"/>
            <a:ext cx="1693800" cy="928800"/>
          </a:xfrm>
          <a:prstGeom prst="rect">
            <a:avLst/>
          </a:prstGeom>
          <a:solidFill>
            <a:srgbClr val="cccc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07200" y="32259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a ||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12000" y="2919240"/>
            <a:ext cx="1800360" cy="928800"/>
          </a:xfrm>
          <a:prstGeom prst="rect">
            <a:avLst/>
          </a:prstGeom>
          <a:solidFill>
            <a:srgbClr val="cccc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01000" y="32338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( a ||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99240" y="3859200"/>
            <a:ext cx="1116000" cy="928800"/>
          </a:xfrm>
          <a:prstGeom prst="rect">
            <a:avLst/>
          </a:prstGeom>
          <a:solidFill>
            <a:srgbClr val="cccc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32360" y="416880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a &amp;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87640" y="21798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201680" y="2854440"/>
            <a:ext cx="3096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2840" y="3286080"/>
            <a:ext cx="0" cy="72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04920" y="4013280"/>
            <a:ext cx="45072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87640" y="2192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45920" y="4035600"/>
            <a:ext cx="48420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17880" y="3305160"/>
            <a:ext cx="6480" cy="730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35280" y="2873520"/>
            <a:ext cx="287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21840" y="2873520"/>
            <a:ext cx="289080" cy="40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01680" y="3282840"/>
            <a:ext cx="0" cy="72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04920" y="4025880"/>
            <a:ext cx="45072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87640" y="21891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92480" y="2529000"/>
            <a:ext cx="139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||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87800" y="2529000"/>
            <a:ext cx="139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||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87640" y="2192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541240" y="4022640"/>
            <a:ext cx="48420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24360" y="3305160"/>
            <a:ext cx="1440" cy="717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35280" y="2873520"/>
            <a:ext cx="289080" cy="41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60360" y="4322880"/>
            <a:ext cx="32385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60360" y="3497400"/>
            <a:ext cx="3238560" cy="1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lient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specificatio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 addCli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String name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updates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containsKey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branc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cannot be created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addClient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equal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ff"/>
                </a:solidFill>
                <a:latin typeface="Courier New"/>
              </a:rPr>
              <a:t>@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.clon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branc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can be created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HashMap oldClients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.clon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oldClients.remov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addCli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addClient.name.equal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addClient.parent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addClient.children.isEmpty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s.g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== add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oldClients.equal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ff"/>
                </a:solidFill>
                <a:latin typeface="Courier New"/>
              </a:rPr>
              <a:t>@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s.clon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: addClient()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10320" y="1844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494480" y="1657440"/>
            <a:ext cx="1253880" cy="1115640"/>
            <a:chOff x="7494480" y="1657440"/>
            <a:chExt cx="1253880" cy="1115640"/>
          </a:xfrm>
        </p:grpSpPr>
        <p:sp>
          <p:nvSpPr>
            <p:cNvPr id="344" name=""/>
            <p:cNvSpPr/>
            <p:nvPr/>
          </p:nvSpPr>
          <p:spPr>
            <a:xfrm flipV="1">
              <a:off x="8294400" y="2125800"/>
              <a:ext cx="179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030880" y="1662120"/>
              <a:ext cx="179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569080" y="2593440"/>
              <a:ext cx="17928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94480" y="2301840"/>
              <a:ext cx="539640" cy="466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2320" y="2301840"/>
              <a:ext cx="540000" cy="466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62680" y="1835280"/>
              <a:ext cx="539640" cy="4665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99360" y="1657440"/>
              <a:ext cx="53964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on from Coverage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0360" y="2205000"/>
            <a:ext cx="3348000" cy="2050920"/>
          </a:xfrm>
          <a:custGeom>
            <a:avLst/>
            <a:gdLst/>
            <a:ahLst/>
            <a:rect l="l" t="t" r="r" b="b"/>
            <a:pathLst>
              <a:path w="2109" h="1292">
                <a:moveTo>
                  <a:pt x="0" y="1292"/>
                </a:moveTo>
                <a:lnTo>
                  <a:pt x="2109" y="1292"/>
                </a:lnTo>
                <a:lnTo>
                  <a:pt x="1950" y="136"/>
                </a:lnTo>
                <a:lnTo>
                  <a:pt x="0" y="0"/>
                </a:lnTo>
                <a:lnTo>
                  <a:pt x="0" y="129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00360" y="2203560"/>
            <a:ext cx="2016000" cy="2052360"/>
          </a:xfrm>
          <a:custGeom>
            <a:avLst/>
            <a:gdLst/>
            <a:ahLst/>
            <a:rect l="l" t="t" r="r" b="b"/>
            <a:pathLst>
              <a:path w="1270" h="1293">
                <a:moveTo>
                  <a:pt x="1270" y="91"/>
                </a:moveTo>
                <a:lnTo>
                  <a:pt x="1202" y="159"/>
                </a:lnTo>
                <a:lnTo>
                  <a:pt x="1134" y="227"/>
                </a:lnTo>
                <a:lnTo>
                  <a:pt x="1111" y="318"/>
                </a:lnTo>
                <a:lnTo>
                  <a:pt x="1111" y="431"/>
                </a:lnTo>
                <a:lnTo>
                  <a:pt x="1134" y="522"/>
                </a:lnTo>
                <a:lnTo>
                  <a:pt x="1111" y="613"/>
                </a:lnTo>
                <a:lnTo>
                  <a:pt x="1021" y="681"/>
                </a:lnTo>
                <a:lnTo>
                  <a:pt x="885" y="749"/>
                </a:lnTo>
                <a:lnTo>
                  <a:pt x="817" y="817"/>
                </a:lnTo>
                <a:lnTo>
                  <a:pt x="794" y="885"/>
                </a:lnTo>
                <a:lnTo>
                  <a:pt x="771" y="930"/>
                </a:lnTo>
                <a:lnTo>
                  <a:pt x="770" y="1000"/>
                </a:lnTo>
                <a:lnTo>
                  <a:pt x="907" y="1021"/>
                </a:lnTo>
                <a:lnTo>
                  <a:pt x="1009" y="1055"/>
                </a:lnTo>
                <a:lnTo>
                  <a:pt x="1106" y="1111"/>
                </a:lnTo>
                <a:lnTo>
                  <a:pt x="1157" y="1199"/>
                </a:lnTo>
                <a:lnTo>
                  <a:pt x="1157" y="1293"/>
                </a:lnTo>
                <a:lnTo>
                  <a:pt x="0" y="1293"/>
                </a:lnTo>
                <a:lnTo>
                  <a:pt x="0" y="0"/>
                </a:lnTo>
                <a:lnTo>
                  <a:pt x="1270" y="9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2708280"/>
            <a:ext cx="1836720" cy="1547640"/>
          </a:xfrm>
          <a:custGeom>
            <a:avLst/>
            <a:gdLst/>
            <a:ahLst/>
            <a:rect l="l" t="t" r="r" b="b"/>
            <a:pathLst>
              <a:path w="1157" h="975">
                <a:moveTo>
                  <a:pt x="1157" y="975"/>
                </a:moveTo>
                <a:lnTo>
                  <a:pt x="0" y="975"/>
                </a:lnTo>
                <a:lnTo>
                  <a:pt x="0" y="0"/>
                </a:lnTo>
                <a:lnTo>
                  <a:pt x="91" y="22"/>
                </a:lnTo>
                <a:lnTo>
                  <a:pt x="159" y="68"/>
                </a:lnTo>
                <a:lnTo>
                  <a:pt x="227" y="90"/>
                </a:lnTo>
                <a:lnTo>
                  <a:pt x="273" y="136"/>
                </a:lnTo>
                <a:lnTo>
                  <a:pt x="318" y="204"/>
                </a:lnTo>
                <a:lnTo>
                  <a:pt x="363" y="272"/>
                </a:lnTo>
                <a:lnTo>
                  <a:pt x="386" y="317"/>
                </a:lnTo>
                <a:lnTo>
                  <a:pt x="409" y="385"/>
                </a:lnTo>
                <a:lnTo>
                  <a:pt x="431" y="476"/>
                </a:lnTo>
                <a:lnTo>
                  <a:pt x="454" y="544"/>
                </a:lnTo>
                <a:lnTo>
                  <a:pt x="499" y="589"/>
                </a:lnTo>
                <a:lnTo>
                  <a:pt x="590" y="612"/>
                </a:lnTo>
                <a:lnTo>
                  <a:pt x="658" y="657"/>
                </a:lnTo>
                <a:lnTo>
                  <a:pt x="749" y="680"/>
                </a:lnTo>
                <a:lnTo>
                  <a:pt x="908" y="703"/>
                </a:lnTo>
                <a:lnTo>
                  <a:pt x="1009" y="737"/>
                </a:lnTo>
                <a:lnTo>
                  <a:pt x="1104" y="792"/>
                </a:lnTo>
                <a:lnTo>
                  <a:pt x="1157" y="884"/>
                </a:lnTo>
                <a:lnTo>
                  <a:pt x="1157" y="97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700360" y="5408640"/>
            <a:ext cx="122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700360" y="1987200"/>
            <a:ext cx="0" cy="22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255920"/>
            <a:ext cx="34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72240" y="42051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91160" y="198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2205000"/>
            <a:ext cx="309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6000" y="2421000"/>
            <a:ext cx="252360" cy="18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616360" y="2444760"/>
            <a:ext cx="10112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84720" y="198756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97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73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61080" y="31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392360" y="2662200"/>
            <a:ext cx="223524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1640" y="3608280"/>
            <a:ext cx="241632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767560" y="3500280"/>
            <a:ext cx="8604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88000" y="337968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35640" y="4148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700360" y="4400640"/>
            <a:ext cx="18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51280" y="242100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700000" y="4579920"/>
            <a:ext cx="205092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24360" y="3787920"/>
            <a:ext cx="0" cy="97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762440"/>
            <a:ext cx="21240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35640" y="4440240"/>
            <a:ext cx="0" cy="96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00360" y="427824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48360" y="427824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24360" y="476244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51280" y="45799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924360" y="5408640"/>
            <a:ext cx="611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535280" y="5408640"/>
            <a:ext cx="215640" cy="0"/>
          </a:xfrm>
          <a:prstGeom prst="line">
            <a:avLst/>
          </a:prstGeom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750920" y="5408640"/>
            <a:ext cx="129708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05000" y="5227560"/>
            <a:ext cx="336600" cy="336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67280" y="5227560"/>
            <a:ext cx="336600" cy="336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95880" y="5227560"/>
            <a:ext cx="336600" cy="336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4000" y="5227560"/>
            <a:ext cx="336600" cy="336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6720" y="44006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48000" y="44006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457992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64000" y="4762440"/>
            <a:ext cx="0" cy="46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951280" y="5491080"/>
            <a:ext cx="188640" cy="2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05240" y="5491080"/>
            <a:ext cx="122040" cy="252360"/>
          </a:xfrm>
          <a:prstGeom prst="line">
            <a:avLst/>
          </a:prstGeom>
          <a:ln w="255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9600" y="5491080"/>
            <a:ext cx="189000" cy="2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48000" y="5564160"/>
            <a:ext cx="0" cy="312840"/>
          </a:xfrm>
          <a:prstGeom prst="line">
            <a:avLst/>
          </a:prstGeom>
          <a:ln w="25560">
            <a:solidFill>
              <a:srgbClr val="00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78320" y="5492880"/>
            <a:ext cx="122400" cy="252360"/>
          </a:xfrm>
          <a:prstGeom prst="line">
            <a:avLst/>
          </a:prstGeom>
          <a:ln w="255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53000" y="5551560"/>
            <a:ext cx="0" cy="312840"/>
          </a:xfrm>
          <a:prstGeom prst="line">
            <a:avLst/>
          </a:prstGeom>
          <a:ln w="25560">
            <a:solidFill>
              <a:srgbClr val="00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64240" y="5492880"/>
            <a:ext cx="171360" cy="252360"/>
          </a:xfrm>
          <a:prstGeom prst="line">
            <a:avLst/>
          </a:prstGeom>
          <a:ln w="255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4000" y="5551560"/>
            <a:ext cx="0" cy="312840"/>
          </a:xfrm>
          <a:prstGeom prst="line">
            <a:avLst/>
          </a:prstGeom>
          <a:ln w="25560">
            <a:solidFill>
              <a:srgbClr val="00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8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it Automata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3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specifications cannot be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rease effort 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ould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automata can be described shor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73840" y="4292640"/>
            <a:ext cx="15145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an describe an automat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it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rm of Test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current state ident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next admissible stimulus in thi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42160" y="2276640"/>
            <a:ext cx="54000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80360" y="2276640"/>
            <a:ext cx="53964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010360" y="1809720"/>
            <a:ext cx="540000" cy="46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cenario :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scenario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class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ManagerTest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Manag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AbstractGenState getGenStat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IntToIntMapGenState genstate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IntToIntMapGenStat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n = 0, m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Iterator j = objectUnderTest.clients.keyS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iterator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j.hasNex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tring s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j.nex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 = Integer.parseI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(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clients.g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parent =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null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genstate.setValu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, 0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m = Integer.parseI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(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clients.g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parent.nam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genstate.setValu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n, m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gensta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42160" y="2276640"/>
            <a:ext cx="54000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80360" y="2276640"/>
            <a:ext cx="53964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10360" y="1809720"/>
            <a:ext cx="540000" cy="46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cenario : Stimu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scenario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class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ManagerTest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scenario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boolean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add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iterat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int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i = 0; i &lt; numberOfClients; i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i == 0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?(null):(""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+ i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precondition_add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 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add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scenario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boolean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remove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urier New"/>
              </a:rPr>
              <a:t>iterat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in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i = -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 i &lt; numberOfClients; i++;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client =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i &lt; 0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?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Mediator.create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new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l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"1"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clients.ge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"" + i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precondition_remove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cli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.removeClient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client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42160" y="2276640"/>
            <a:ext cx="54000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80360" y="2276640"/>
            <a:ext cx="53964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10360" y="1809720"/>
            <a:ext cx="540000" cy="46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Execution : First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0" y="1576440"/>
            <a:ext cx="1296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00360" y="5414040"/>
            <a:ext cx="1549440" cy="642600"/>
          </a:xfrm>
          <a:prstGeom prst="rect">
            <a:avLst/>
          </a:prstGeom>
          <a:solidFill>
            <a:srgbClr val="e8e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10160" y="3054240"/>
            <a:ext cx="271440" cy="27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08360" y="4168800"/>
            <a:ext cx="271440" cy="27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62520" y="3054240"/>
            <a:ext cx="271440" cy="27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62520" y="4168800"/>
            <a:ext cx="271440" cy="27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2" idx="4"/>
            <a:endCxn id="423" idx="0"/>
          </p:cNvCxnSpPr>
          <p:nvPr/>
        </p:nvCxnSpPr>
        <p:spPr>
          <a:xfrm rot="5400000">
            <a:off x="3423240" y="3746160"/>
            <a:ext cx="843840" cy="252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4"/>
            <a:endCxn id="423" idx="2"/>
          </p:cNvCxnSpPr>
          <p:nvPr/>
        </p:nvCxnSpPr>
        <p:spPr>
          <a:xfrm flipV="1" rot="16200000">
            <a:off x="3708360" y="4303800"/>
            <a:ext cx="135720" cy="137160"/>
          </a:xfrm>
          <a:prstGeom prst="curvedConnector5">
            <a:avLst>
              <a:gd name="adj1" fmla="val -169148"/>
              <a:gd name="adj2" fmla="val 133684"/>
              <a:gd name="adj3" fmla="val -16914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3" idx="6"/>
            <a:endCxn id="425" idx="2"/>
          </p:cNvCxnSpPr>
          <p:nvPr/>
        </p:nvCxnSpPr>
        <p:spPr>
          <a:xfrm>
            <a:off x="3979800" y="4304880"/>
            <a:ext cx="883440" cy="1080"/>
          </a:xfrm>
          <a:prstGeom prst="curved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5" idx="0"/>
            <a:endCxn id="424" idx="4"/>
          </p:cNvCxnSpPr>
          <p:nvPr/>
        </p:nvCxnSpPr>
        <p:spPr>
          <a:xfrm flipV="1">
            <a:off x="4998600" y="3325320"/>
            <a:ext cx="1080" cy="843840"/>
          </a:xfrm>
          <a:prstGeom prst="curved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5" idx="1"/>
            <a:endCxn id="423" idx="7"/>
          </p:cNvCxnSpPr>
          <p:nvPr/>
        </p:nvCxnSpPr>
        <p:spPr>
          <a:xfrm rot="5400000">
            <a:off x="4419720" y="3727440"/>
            <a:ext cx="2520" cy="962640"/>
          </a:xfrm>
          <a:prstGeom prst="curvedConnector5">
            <a:avLst>
              <a:gd name="adj1" fmla="val -16900000"/>
              <a:gd name="adj2" fmla="val 49981"/>
              <a:gd name="adj3" fmla="val -169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6"/>
            <a:endCxn id="424" idx="6"/>
          </p:cNvCxnSpPr>
          <p:nvPr/>
        </p:nvCxnSpPr>
        <p:spPr>
          <a:xfrm flipV="1">
            <a:off x="5133960" y="3190320"/>
            <a:ext cx="2160" cy="11149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2" idx="0"/>
            <a:endCxn id="422" idx="2"/>
          </p:cNvCxnSpPr>
          <p:nvPr/>
        </p:nvCxnSpPr>
        <p:spPr>
          <a:xfrm rot="5400000">
            <a:off x="3709080" y="3054240"/>
            <a:ext cx="137520" cy="137160"/>
          </a:xfrm>
          <a:prstGeom prst="curvedConnector5">
            <a:avLst>
              <a:gd name="adj1" fmla="val -167191"/>
              <a:gd name="adj2" fmla="val 133684"/>
              <a:gd name="adj3" fmla="val -16719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2"/>
            <a:endCxn id="422" idx="6"/>
          </p:cNvCxnSpPr>
          <p:nvPr/>
        </p:nvCxnSpPr>
        <p:spPr>
          <a:xfrm flipH="1">
            <a:off x="3980880" y="3190680"/>
            <a:ext cx="8816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 rot="16200000">
            <a:off x="4092480" y="4700520"/>
            <a:ext cx="581040" cy="485640"/>
          </a:xfrm>
          <a:custGeom>
            <a:avLst/>
            <a:gdLst>
              <a:gd name="textAreaLeft" fmla="*/ 104400 w 581040"/>
              <a:gd name="textAreaRight" fmla="*/ 476640 w 581040"/>
              <a:gd name="textAreaTop" fmla="*/ 101520 h 485640"/>
              <a:gd name="textAreaBottom" fmla="*/ 3841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4517"/>
                </a:moveTo>
                <a:lnTo>
                  <a:pt x="14931" y="4517"/>
                </a:lnTo>
                <a:lnTo>
                  <a:pt x="14931" y="0"/>
                </a:lnTo>
                <a:lnTo>
                  <a:pt x="21600" y="10800"/>
                </a:lnTo>
                <a:lnTo>
                  <a:pt x="14931" y="21600"/>
                </a:lnTo>
                <a:lnTo>
                  <a:pt x="14931" y="17083"/>
                </a:lnTo>
                <a:lnTo>
                  <a:pt x="0" y="17083"/>
                </a:lnTo>
                <a:lnTo>
                  <a:pt x="3880" y="10800"/>
                </a:lnTo>
                <a:lnTo>
                  <a:pt x="0" y="45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2368440"/>
            <a:ext cx="485640" cy="412920"/>
          </a:xfrm>
          <a:prstGeom prst="downArrow">
            <a:avLst>
              <a:gd name="adj1" fmla="val 49676"/>
              <a:gd name="adj2" fmla="val 43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22" idx="0"/>
          </p:cNvCxnSpPr>
          <p:nvPr/>
        </p:nvCxnSpPr>
        <p:spPr>
          <a:xfrm flipV="1">
            <a:off x="3846240" y="28364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24" idx="2"/>
          </p:cNvCxnSpPr>
          <p:nvPr/>
        </p:nvCxnSpPr>
        <p:spPr>
          <a:xfrm flipH="1">
            <a:off x="4626720" y="3190680"/>
            <a:ext cx="23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22" idx="4"/>
          </p:cNvCxnSpPr>
          <p:nvPr/>
        </p:nvCxnSpPr>
        <p:spPr>
          <a:xfrm flipH="1">
            <a:off x="3844080" y="3325680"/>
            <a:ext cx="252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23" idx="4"/>
          </p:cNvCxnSpPr>
          <p:nvPr/>
        </p:nvCxnSpPr>
        <p:spPr>
          <a:xfrm>
            <a:off x="3844440" y="443988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23" idx="6"/>
          </p:cNvCxnSpPr>
          <p:nvPr/>
        </p:nvCxnSpPr>
        <p:spPr>
          <a:xfrm>
            <a:off x="3979800" y="430488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25" idx="1"/>
          </p:cNvCxnSpPr>
          <p:nvPr/>
        </p:nvCxnSpPr>
        <p:spPr>
          <a:xfrm flipV="1">
            <a:off x="4901760" y="4007880"/>
            <a:ext cx="10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25" idx="0"/>
          </p:cNvCxnSpPr>
          <p:nvPr/>
        </p:nvCxnSpPr>
        <p:spPr>
          <a:xfrm flipV="1">
            <a:off x="4998600" y="400788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25" idx="6"/>
          </p:cNvCxnSpPr>
          <p:nvPr/>
        </p:nvCxnSpPr>
        <p:spPr>
          <a:xfrm>
            <a:off x="5133600" y="430488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1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1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7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8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2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3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57120" y="2048040"/>
            <a:ext cx="3073320" cy="390348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4245120" y="1981080"/>
            <a:ext cx="2619360" cy="3905280"/>
            <a:chOff x="4245120" y="1981080"/>
            <a:chExt cx="2619360" cy="3905280"/>
          </a:xfrm>
        </p:grpSpPr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6262560" y="1981080"/>
              <a:ext cx="60192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245120" y="3573360"/>
              <a:ext cx="1407960" cy="700200"/>
            </a:xfrm>
            <a:prstGeom prst="rightArrow">
              <a:avLst>
                <a:gd name="adj1" fmla="val 50000"/>
                <a:gd name="adj2" fmla="val 5027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e8e8f4"/>
                </a:gs>
                <a:gs pos="100000">
                  <a:srgbClr val="99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148520" y="1981080"/>
            <a:ext cx="1527120" cy="3905280"/>
            <a:chOff x="7148520" y="1981080"/>
            <a:chExt cx="1527120" cy="3905280"/>
          </a:xfrm>
        </p:grpSpPr>
        <p:sp>
          <p:nvSpPr>
            <p:cNvPr id="450" name=""/>
            <p:cNvSpPr/>
            <p:nvPr/>
          </p:nvSpPr>
          <p:spPr>
            <a:xfrm>
              <a:off x="7148520" y="3554280"/>
              <a:ext cx="425520" cy="71928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e8e8f4"/>
                </a:gs>
                <a:gs pos="100000">
                  <a:srgbClr val="99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3"/>
            <a:stretch/>
          </p:blipFill>
          <p:spPr>
            <a:xfrm>
              <a:off x="7574040" y="1981080"/>
              <a:ext cx="1101600" cy="390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3603600" y="2049480"/>
            <a:ext cx="3757680" cy="3903480"/>
            <a:chOff x="3603600" y="2049480"/>
            <a:chExt cx="3757680" cy="3903480"/>
          </a:xfrm>
        </p:grpSpPr>
        <p:sp>
          <p:nvSpPr>
            <p:cNvPr id="453" name=""/>
            <p:cNvSpPr/>
            <p:nvPr/>
          </p:nvSpPr>
          <p:spPr>
            <a:xfrm>
              <a:off x="3603600" y="3554280"/>
              <a:ext cx="425520" cy="71928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e8e8f4"/>
                </a:gs>
                <a:gs pos="100000">
                  <a:srgbClr val="99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4"/>
            <a:stretch/>
          </p:blipFill>
          <p:spPr>
            <a:xfrm>
              <a:off x="3855960" y="2049480"/>
              <a:ext cx="3505320" cy="39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Concurrency :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2060640"/>
            <a:ext cx="287280" cy="28728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2060640"/>
            <a:ext cx="287280" cy="287280"/>
          </a:xfrm>
          <a:prstGeom prst="ellipse">
            <a:avLst/>
          </a:prstGeom>
          <a:solidFill>
            <a:srgbClr val="cccc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2060640"/>
            <a:ext cx="287640" cy="28728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2924280"/>
            <a:ext cx="287280" cy="28728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57" idx="2"/>
            <a:endCxn id="456" idx="6"/>
          </p:cNvCxnSpPr>
          <p:nvPr/>
        </p:nvCxnSpPr>
        <p:spPr>
          <a:xfrm flipH="1">
            <a:off x="1186560" y="2204640"/>
            <a:ext cx="62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133416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7" idx="6"/>
            <a:endCxn id="458" idx="2"/>
          </p:cNvCxnSpPr>
          <p:nvPr/>
        </p:nvCxnSpPr>
        <p:spPr>
          <a:xfrm>
            <a:off x="2141640" y="2204640"/>
            <a:ext cx="63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1334160" y="2421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{a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9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7" idx="4"/>
            <a:endCxn id="459" idx="0"/>
          </p:cNvCxnSpPr>
          <p:nvPr/>
        </p:nvCxnSpPr>
        <p:spPr>
          <a:xfrm>
            <a:off x="1979280" y="2367000"/>
            <a:ext cx="108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2270520" y="2421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{a,a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70520" y="270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{b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70520" y="2997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{a,a,a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70520" y="3284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{a,a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35280" y="198756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odel responses on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stimu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5760" y="4005360"/>
            <a:ext cx="771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in concurrency axi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on multistimulus is the same as on some sequence of its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 of UniTes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923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– 199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 RAS – Nortel Networks projec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test suite development for Switch Operating System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hundreds of bugs found in the OS kernel, which had been in use for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EST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600K lines of Nortel code tested by 2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ailed to be introduced in Norte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20000" y="2565360"/>
            <a:ext cx="1962000" cy="57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3428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ynchronous Reaction Specif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specification rea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UDPPacket UDPRespon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return 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UDPPackets.isEmpt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UDPPackets.cl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contai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DPRespon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 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UDPPackets.contai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UDPRespon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ing Concurrent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1989000"/>
            <a:ext cx="38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83280" y="1995480"/>
            <a:ext cx="1584360" cy="2158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und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138400"/>
            <a:ext cx="215640" cy="360360"/>
          </a:xfrm>
          <a:prstGeom prst="ellipse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65920" y="2894040"/>
            <a:ext cx="215640" cy="360360"/>
          </a:xfrm>
          <a:prstGeom prst="ellipse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65920" y="3651120"/>
            <a:ext cx="215640" cy="360360"/>
          </a:xfrm>
          <a:prstGeom prst="ellipse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91280" y="234936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1280" y="307656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1280" y="2716200"/>
            <a:ext cx="38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91280" y="386856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91280" y="3508200"/>
            <a:ext cx="38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08480" y="235584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08480" y="198900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08480" y="387504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08480" y="350820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46560" y="235584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46560" y="1989000"/>
            <a:ext cx="38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46560" y="308304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46560" y="2716200"/>
            <a:ext cx="38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98680" y="308304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74920" y="271620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3280" y="235584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03280" y="198900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308304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71620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03280" y="387504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03280" y="350820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82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sequ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instead of sequence of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ing Asynchronous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form a partially ordered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1280" y="2135160"/>
            <a:ext cx="1369800" cy="2158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und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76320" y="2278080"/>
            <a:ext cx="216000" cy="360360"/>
          </a:xfrm>
          <a:prstGeom prst="ellipse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76320" y="3033720"/>
            <a:ext cx="216000" cy="360360"/>
          </a:xfrm>
          <a:prstGeom prst="ellipse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76320" y="3790800"/>
            <a:ext cx="216000" cy="360360"/>
          </a:xfrm>
          <a:prstGeom prst="ellipse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07120" y="36050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07120" y="396540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32320" y="39718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32320" y="36050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5040" y="245268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45040" y="20858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29280" y="317988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29280" y="28130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86120" y="31798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62360" y="28130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6680" y="245268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76680" y="2085840"/>
            <a:ext cx="38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68440" y="31798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68440" y="28130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8440" y="39718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68440" y="3605040"/>
            <a:ext cx="38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06640" y="451008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43360" y="1989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76840" y="1989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15000" y="1989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48480" y="1989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84840" y="1989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89880" y="4149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237440" y="2133000"/>
            <a:ext cx="12204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854840" y="2133000"/>
            <a:ext cx="12240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8483760" y="2133000"/>
            <a:ext cx="12204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7854840" y="2820960"/>
            <a:ext cx="12240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237440" y="2820960"/>
            <a:ext cx="12204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8483760" y="2820960"/>
            <a:ext cx="12204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854840" y="3283920"/>
            <a:ext cx="12240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1" idx="0"/>
            <a:endCxn id="535" idx="4"/>
          </p:cNvCxnSpPr>
          <p:nvPr/>
        </p:nvCxnSpPr>
        <p:spPr>
          <a:xfrm>
            <a:off x="7297200" y="2257200"/>
            <a:ext cx="1080" cy="56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32" idx="0"/>
            <a:endCxn id="534" idx="4"/>
          </p:cNvCxnSpPr>
          <p:nvPr/>
        </p:nvCxnSpPr>
        <p:spPr>
          <a:xfrm>
            <a:off x="7914960" y="2257200"/>
            <a:ext cx="1080" cy="56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3" idx="0"/>
            <a:endCxn id="536" idx="4"/>
          </p:cNvCxnSpPr>
          <p:nvPr/>
        </p:nvCxnSpPr>
        <p:spPr>
          <a:xfrm>
            <a:off x="8543520" y="2257200"/>
            <a:ext cx="1080" cy="56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2" idx="1"/>
            <a:endCxn id="535" idx="5"/>
          </p:cNvCxnSpPr>
          <p:nvPr/>
        </p:nvCxnSpPr>
        <p:spPr>
          <a:xfrm flipH="1">
            <a:off x="7340040" y="2238120"/>
            <a:ext cx="53244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1" idx="7"/>
            <a:endCxn id="534" idx="3"/>
          </p:cNvCxnSpPr>
          <p:nvPr/>
        </p:nvCxnSpPr>
        <p:spPr>
          <a:xfrm>
            <a:off x="7340400" y="2238120"/>
            <a:ext cx="53244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2" idx="7"/>
            <a:endCxn id="536" idx="3"/>
          </p:cNvCxnSpPr>
          <p:nvPr/>
        </p:nvCxnSpPr>
        <p:spPr>
          <a:xfrm>
            <a:off x="7958160" y="2238120"/>
            <a:ext cx="54360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1" idx="7"/>
            <a:endCxn id="536" idx="3"/>
          </p:cNvCxnSpPr>
          <p:nvPr/>
        </p:nvCxnSpPr>
        <p:spPr>
          <a:xfrm>
            <a:off x="7340400" y="2238120"/>
            <a:ext cx="116100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3" idx="1"/>
            <a:endCxn id="534" idx="5"/>
          </p:cNvCxnSpPr>
          <p:nvPr/>
        </p:nvCxnSpPr>
        <p:spPr>
          <a:xfrm flipH="1">
            <a:off x="7957800" y="2238120"/>
            <a:ext cx="54360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3" idx="1"/>
            <a:endCxn id="535" idx="5"/>
          </p:cNvCxnSpPr>
          <p:nvPr/>
        </p:nvCxnSpPr>
        <p:spPr>
          <a:xfrm flipH="1">
            <a:off x="7340040" y="2238120"/>
            <a:ext cx="116100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 flipV="1">
            <a:off x="8483760" y="3737880"/>
            <a:ext cx="12204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"/>
          <p:cNvCxnSpPr>
            <a:stCxn id="535" idx="7"/>
            <a:endCxn id="537" idx="3"/>
          </p:cNvCxnSpPr>
          <p:nvPr/>
        </p:nvCxnSpPr>
        <p:spPr>
          <a:xfrm>
            <a:off x="7340400" y="2925720"/>
            <a:ext cx="5324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34" idx="0"/>
            <a:endCxn id="537" idx="4"/>
          </p:cNvCxnSpPr>
          <p:nvPr/>
        </p:nvCxnSpPr>
        <p:spPr>
          <a:xfrm>
            <a:off x="7914960" y="2944800"/>
            <a:ext cx="108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36" idx="0"/>
            <a:endCxn id="547" idx="4"/>
          </p:cNvCxnSpPr>
          <p:nvPr/>
        </p:nvCxnSpPr>
        <p:spPr>
          <a:xfrm>
            <a:off x="8543520" y="2944440"/>
            <a:ext cx="10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37" idx="7"/>
            <a:endCxn id="547" idx="3"/>
          </p:cNvCxnSpPr>
          <p:nvPr/>
        </p:nvCxnSpPr>
        <p:spPr>
          <a:xfrm>
            <a:off x="7958160" y="3389040"/>
            <a:ext cx="54360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7094160" y="1844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8920" y="2708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743240" y="1844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90880" y="1844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25800" y="2708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75240" y="2708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525800" y="3213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175240" y="3645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4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53960" y="2276640"/>
            <a:ext cx="718920" cy="1512720"/>
          </a:xfrm>
          <a:custGeom>
            <a:avLst/>
            <a:gdLst/>
            <a:ahLst/>
            <a:rect l="l" t="t" r="r" b="b"/>
            <a:pathLst>
              <a:path w="325" h="953">
                <a:moveTo>
                  <a:pt x="0" y="0"/>
                </a:moveTo>
                <a:cubicBezTo>
                  <a:pt x="109" y="7"/>
                  <a:pt x="219" y="15"/>
                  <a:pt x="272" y="91"/>
                </a:cubicBezTo>
                <a:cubicBezTo>
                  <a:pt x="325" y="167"/>
                  <a:pt x="310" y="310"/>
                  <a:pt x="317" y="454"/>
                </a:cubicBezTo>
                <a:cubicBezTo>
                  <a:pt x="324" y="598"/>
                  <a:pt x="317" y="870"/>
                  <a:pt x="317" y="953"/>
                </a:cubicBezTo>
              </a:path>
            </a:pathLst>
          </a:custGeom>
          <a:noFill/>
          <a:ln w="76320">
            <a:solidFill>
              <a:srgbClr val="99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14680" y="2276640"/>
            <a:ext cx="719280" cy="1512720"/>
          </a:xfrm>
          <a:custGeom>
            <a:avLst/>
            <a:gdLst/>
            <a:ahLst/>
            <a:rect l="l" t="t" r="r" b="b"/>
            <a:pathLst>
              <a:path w="325" h="953">
                <a:moveTo>
                  <a:pt x="0" y="0"/>
                </a:moveTo>
                <a:cubicBezTo>
                  <a:pt x="109" y="7"/>
                  <a:pt x="219" y="15"/>
                  <a:pt x="272" y="91"/>
                </a:cubicBezTo>
                <a:cubicBezTo>
                  <a:pt x="325" y="167"/>
                  <a:pt x="310" y="310"/>
                  <a:pt x="317" y="454"/>
                </a:cubicBezTo>
                <a:cubicBezTo>
                  <a:pt x="324" y="598"/>
                  <a:pt x="317" y="870"/>
                  <a:pt x="317" y="953"/>
                </a:cubicBezTo>
              </a:path>
            </a:pathLst>
          </a:custGeom>
          <a:noFill/>
          <a:ln w="76320">
            <a:solidFill>
              <a:srgbClr val="99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 rot="16200000">
            <a:off x="5817600" y="2349360"/>
            <a:ext cx="122400" cy="1220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5817600" y="1989000"/>
            <a:ext cx="12240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6394320" y="1989000"/>
            <a:ext cx="12240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 rot="16200000">
            <a:off x="6394320" y="234936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6968520" y="1989000"/>
            <a:ext cx="12240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3" idx="0"/>
            <a:endCxn id="566" idx="4"/>
          </p:cNvCxnSpPr>
          <p:nvPr/>
        </p:nvCxnSpPr>
        <p:spPr>
          <a:xfrm>
            <a:off x="5943240" y="2412720"/>
            <a:ext cx="45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4" idx="0"/>
            <a:endCxn id="565" idx="4"/>
          </p:cNvCxnSpPr>
          <p:nvPr/>
        </p:nvCxnSpPr>
        <p:spPr>
          <a:xfrm>
            <a:off x="5943240" y="2052360"/>
            <a:ext cx="45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3" idx="7"/>
            <a:endCxn id="565" idx="3"/>
          </p:cNvCxnSpPr>
          <p:nvPr/>
        </p:nvCxnSpPr>
        <p:spPr>
          <a:xfrm flipV="1">
            <a:off x="5924160" y="2094840"/>
            <a:ext cx="4914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6" idx="7"/>
            <a:endCxn id="567" idx="3"/>
          </p:cNvCxnSpPr>
          <p:nvPr/>
        </p:nvCxnSpPr>
        <p:spPr>
          <a:xfrm flipV="1">
            <a:off x="6500880" y="2094840"/>
            <a:ext cx="4896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5" idx="0"/>
            <a:endCxn id="567" idx="4"/>
          </p:cNvCxnSpPr>
          <p:nvPr/>
        </p:nvCxnSpPr>
        <p:spPr>
          <a:xfrm>
            <a:off x="6519600" y="205236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 flipV="1" rot="16200000">
            <a:off x="2073240" y="19890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 rot="16200000">
            <a:off x="2073240" y="2349360"/>
            <a:ext cx="12240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 rot="16200000">
            <a:off x="2648880" y="2349360"/>
            <a:ext cx="122400" cy="122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 rot="16200000">
            <a:off x="3225240" y="198900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 rot="16200000">
            <a:off x="3225240" y="2349360"/>
            <a:ext cx="122400" cy="122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"/>
          <p:cNvCxnSpPr>
            <a:stCxn id="573" idx="0"/>
            <a:endCxn id="576" idx="4"/>
          </p:cNvCxnSpPr>
          <p:nvPr/>
        </p:nvCxnSpPr>
        <p:spPr>
          <a:xfrm>
            <a:off x="2198520" y="20523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74" idx="0"/>
            <a:endCxn id="575" idx="4"/>
          </p:cNvCxnSpPr>
          <p:nvPr/>
        </p:nvCxnSpPr>
        <p:spPr>
          <a:xfrm>
            <a:off x="2198520" y="2412720"/>
            <a:ext cx="455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5" idx="0"/>
            <a:endCxn id="577" idx="4"/>
          </p:cNvCxnSpPr>
          <p:nvPr/>
        </p:nvCxnSpPr>
        <p:spPr>
          <a:xfrm>
            <a:off x="2774520" y="2412720"/>
            <a:ext cx="45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222012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73320" y="2565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08000" y="3165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in concurrency axi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 rot="16200000">
            <a:off x="3608280" y="4004280"/>
            <a:ext cx="12204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 rot="16200000">
            <a:off x="2344680" y="4004280"/>
            <a:ext cx="12204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 rot="16200000">
            <a:off x="5503680" y="4004640"/>
            <a:ext cx="12204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 rot="16200000">
            <a:off x="6767280" y="4004640"/>
            <a:ext cx="122040" cy="122040"/>
          </a:xfrm>
          <a:prstGeom prst="ellipse">
            <a:avLst/>
          </a:prstGeom>
          <a:solidFill>
            <a:srgbClr val="339966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 rot="16200000">
            <a:off x="7400880" y="4004280"/>
            <a:ext cx="122040" cy="122400"/>
          </a:xfrm>
          <a:prstGeom prst="ellipse">
            <a:avLst/>
          </a:prstGeom>
          <a:solidFill>
            <a:srgbClr val="00007d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90" idx="0"/>
            <a:endCxn id="587" idx="4"/>
          </p:cNvCxnSpPr>
          <p:nvPr/>
        </p:nvCxnSpPr>
        <p:spPr>
          <a:xfrm>
            <a:off x="62607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91" name=""/>
          <p:cNvCxnSpPr>
            <a:stCxn id="592" idx="0"/>
            <a:endCxn id="584" idx="4"/>
          </p:cNvCxnSpPr>
          <p:nvPr/>
        </p:nvCxnSpPr>
        <p:spPr>
          <a:xfrm>
            <a:off x="31017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3" name=""/>
          <p:cNvCxnSpPr>
            <a:stCxn id="584" idx="0"/>
            <a:endCxn id="594" idx="4"/>
          </p:cNvCxnSpPr>
          <p:nvPr/>
        </p:nvCxnSpPr>
        <p:spPr>
          <a:xfrm>
            <a:off x="37335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5" name=""/>
          <p:cNvCxnSpPr>
            <a:stCxn id="587" idx="0"/>
            <a:endCxn id="588" idx="4"/>
          </p:cNvCxnSpPr>
          <p:nvPr/>
        </p:nvCxnSpPr>
        <p:spPr>
          <a:xfrm>
            <a:off x="6892920" y="4068360"/>
            <a:ext cx="5119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96" name=""/>
          <p:cNvCxnSpPr>
            <a:stCxn id="586" idx="0"/>
            <a:endCxn id="590" idx="4"/>
          </p:cNvCxnSpPr>
          <p:nvPr/>
        </p:nvCxnSpPr>
        <p:spPr>
          <a:xfrm>
            <a:off x="56289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 flipV="1" rot="16200000">
            <a:off x="1712880" y="40035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 rot="16200000">
            <a:off x="2976480" y="4004280"/>
            <a:ext cx="12204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4240080" y="4004280"/>
            <a:ext cx="12204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 rot="16200000">
            <a:off x="4871880" y="40042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 rot="16200000">
            <a:off x="6135480" y="4004640"/>
            <a:ext cx="122040" cy="1220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"/>
          <p:cNvCxnSpPr>
            <a:stCxn id="597" idx="0"/>
            <a:endCxn id="585" idx="4"/>
          </p:cNvCxnSpPr>
          <p:nvPr/>
        </p:nvCxnSpPr>
        <p:spPr>
          <a:xfrm>
            <a:off x="1838160" y="40672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8" idx="0"/>
            <a:endCxn id="586" idx="4"/>
          </p:cNvCxnSpPr>
          <p:nvPr/>
        </p:nvCxnSpPr>
        <p:spPr>
          <a:xfrm>
            <a:off x="49971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4" idx="0"/>
            <a:endCxn id="598" idx="4"/>
          </p:cNvCxnSpPr>
          <p:nvPr/>
        </p:nvCxnSpPr>
        <p:spPr>
          <a:xfrm>
            <a:off x="43653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85" idx="0"/>
            <a:endCxn id="592" idx="4"/>
          </p:cNvCxnSpPr>
          <p:nvPr/>
        </p:nvCxnSpPr>
        <p:spPr>
          <a:xfrm>
            <a:off x="2469960" y="4068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"/>
          <p:cNvSpPr/>
          <p:nvPr/>
        </p:nvSpPr>
        <p:spPr>
          <a:xfrm flipV="1" rot="16200000">
            <a:off x="3608280" y="4724280"/>
            <a:ext cx="12240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 rot="16200000">
            <a:off x="2344680" y="4724280"/>
            <a:ext cx="12240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 rot="16200000">
            <a:off x="5503320" y="4724280"/>
            <a:ext cx="122400" cy="122040"/>
          </a:xfrm>
          <a:prstGeom prst="ellipse">
            <a:avLst/>
          </a:prstGeom>
          <a:solidFill>
            <a:srgbClr val="00007d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 rot="16200000">
            <a:off x="6766920" y="4724280"/>
            <a:ext cx="122400" cy="122040"/>
          </a:xfrm>
          <a:prstGeom prst="ellipse">
            <a:avLst/>
          </a:prstGeom>
          <a:solidFill>
            <a:srgbClr val="339966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 rot="16200000">
            <a:off x="7400880" y="4724280"/>
            <a:ext cx="122400" cy="122400"/>
          </a:xfrm>
          <a:prstGeom prst="ellipse">
            <a:avLst/>
          </a:prstGeom>
          <a:solidFill>
            <a:srgbClr val="00007d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609" idx="0"/>
            <a:endCxn id="606" idx="4"/>
          </p:cNvCxnSpPr>
          <p:nvPr/>
        </p:nvCxnSpPr>
        <p:spPr>
          <a:xfrm>
            <a:off x="62607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10" name=""/>
          <p:cNvCxnSpPr>
            <a:stCxn id="611" idx="0"/>
            <a:endCxn id="603" idx="4"/>
          </p:cNvCxnSpPr>
          <p:nvPr/>
        </p:nvCxnSpPr>
        <p:spPr>
          <a:xfrm>
            <a:off x="31017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603" idx="0"/>
            <a:endCxn id="613" idx="4"/>
          </p:cNvCxnSpPr>
          <p:nvPr/>
        </p:nvCxnSpPr>
        <p:spPr>
          <a:xfrm>
            <a:off x="37335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606" idx="0"/>
            <a:endCxn id="607" idx="4"/>
          </p:cNvCxnSpPr>
          <p:nvPr/>
        </p:nvCxnSpPr>
        <p:spPr>
          <a:xfrm>
            <a:off x="6892920" y="4787640"/>
            <a:ext cx="5119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15" name=""/>
          <p:cNvCxnSpPr>
            <a:stCxn id="605" idx="0"/>
            <a:endCxn id="609" idx="4"/>
          </p:cNvCxnSpPr>
          <p:nvPr/>
        </p:nvCxnSpPr>
        <p:spPr>
          <a:xfrm>
            <a:off x="56289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 flipV="1" rot="16200000">
            <a:off x="1712880" y="472176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 rot="16200000">
            <a:off x="2976480" y="472428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 rot="16200000">
            <a:off x="4240080" y="4724280"/>
            <a:ext cx="122400" cy="1224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 rot="16200000">
            <a:off x="4871880" y="4724280"/>
            <a:ext cx="122400" cy="122400"/>
          </a:xfrm>
          <a:prstGeom prst="ellipse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 rot="16200000">
            <a:off x="6135120" y="4724280"/>
            <a:ext cx="122400" cy="1220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"/>
          <p:cNvCxnSpPr>
            <a:stCxn id="616" idx="0"/>
            <a:endCxn id="604" idx="4"/>
          </p:cNvCxnSpPr>
          <p:nvPr/>
        </p:nvCxnSpPr>
        <p:spPr>
          <a:xfrm>
            <a:off x="1838160" y="478584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0"/>
            <a:endCxn id="605" idx="4"/>
          </p:cNvCxnSpPr>
          <p:nvPr/>
        </p:nvCxnSpPr>
        <p:spPr>
          <a:xfrm>
            <a:off x="49971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20" name=""/>
          <p:cNvCxnSpPr>
            <a:stCxn id="613" idx="0"/>
            <a:endCxn id="617" idx="4"/>
          </p:cNvCxnSpPr>
          <p:nvPr/>
        </p:nvCxnSpPr>
        <p:spPr>
          <a:xfrm>
            <a:off x="43653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21" name=""/>
          <p:cNvCxnSpPr>
            <a:stCxn id="604" idx="0"/>
            <a:endCxn id="611" idx="4"/>
          </p:cNvCxnSpPr>
          <p:nvPr/>
        </p:nvCxnSpPr>
        <p:spPr>
          <a:xfrm>
            <a:off x="2469960" y="47876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 flipV="1" rot="16200000">
            <a:off x="3608280" y="5099040"/>
            <a:ext cx="12240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2344680" y="5099040"/>
            <a:ext cx="12240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 rot="16200000">
            <a:off x="5503320" y="5099040"/>
            <a:ext cx="122400" cy="122040"/>
          </a:xfrm>
          <a:prstGeom prst="ellipse">
            <a:avLst/>
          </a:prstGeom>
          <a:solidFill>
            <a:srgbClr val="00007d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 rot="16200000">
            <a:off x="6766920" y="5099040"/>
            <a:ext cx="122400" cy="122040"/>
          </a:xfrm>
          <a:prstGeom prst="ellipse">
            <a:avLst/>
          </a:prstGeom>
          <a:solidFill>
            <a:srgbClr val="339966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 rot="16200000">
            <a:off x="7400880" y="5099040"/>
            <a:ext cx="122400" cy="122400"/>
          </a:xfrm>
          <a:prstGeom prst="ellipse">
            <a:avLst/>
          </a:prstGeom>
          <a:solidFill>
            <a:srgbClr val="00007d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"/>
          <p:cNvCxnSpPr>
            <a:stCxn id="628" idx="0"/>
            <a:endCxn id="625" idx="4"/>
          </p:cNvCxnSpPr>
          <p:nvPr/>
        </p:nvCxnSpPr>
        <p:spPr>
          <a:xfrm>
            <a:off x="62607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29" name=""/>
          <p:cNvCxnSpPr>
            <a:stCxn id="630" idx="0"/>
            <a:endCxn id="622" idx="4"/>
          </p:cNvCxnSpPr>
          <p:nvPr/>
        </p:nvCxnSpPr>
        <p:spPr>
          <a:xfrm>
            <a:off x="31017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2" idx="0"/>
            <a:endCxn id="632" idx="4"/>
          </p:cNvCxnSpPr>
          <p:nvPr/>
        </p:nvCxnSpPr>
        <p:spPr>
          <a:xfrm>
            <a:off x="37335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5" idx="0"/>
            <a:endCxn id="626" idx="4"/>
          </p:cNvCxnSpPr>
          <p:nvPr/>
        </p:nvCxnSpPr>
        <p:spPr>
          <a:xfrm>
            <a:off x="6892920" y="5162040"/>
            <a:ext cx="5119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34" name=""/>
          <p:cNvCxnSpPr>
            <a:stCxn id="624" idx="0"/>
            <a:endCxn id="628" idx="4"/>
          </p:cNvCxnSpPr>
          <p:nvPr/>
        </p:nvCxnSpPr>
        <p:spPr>
          <a:xfrm>
            <a:off x="56289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 flipV="1" rot="16200000">
            <a:off x="1712880" y="50965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 rot="16200000">
            <a:off x="2976480" y="509904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 rot="16200000">
            <a:off x="4240080" y="5099040"/>
            <a:ext cx="12240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 rot="16200000">
            <a:off x="4871880" y="509904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 rot="16200000">
            <a:off x="6135120" y="5099040"/>
            <a:ext cx="122400" cy="1220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5" idx="0"/>
            <a:endCxn id="623" idx="4"/>
          </p:cNvCxnSpPr>
          <p:nvPr/>
        </p:nvCxnSpPr>
        <p:spPr>
          <a:xfrm>
            <a:off x="1838160" y="5160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6" idx="0"/>
            <a:endCxn id="624" idx="4"/>
          </p:cNvCxnSpPr>
          <p:nvPr/>
        </p:nvCxnSpPr>
        <p:spPr>
          <a:xfrm>
            <a:off x="49971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32" idx="0"/>
            <a:endCxn id="636" idx="4"/>
          </p:cNvCxnSpPr>
          <p:nvPr/>
        </p:nvCxnSpPr>
        <p:spPr>
          <a:xfrm>
            <a:off x="43653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23" idx="0"/>
            <a:endCxn id="630" idx="4"/>
          </p:cNvCxnSpPr>
          <p:nvPr/>
        </p:nvCxnSpPr>
        <p:spPr>
          <a:xfrm>
            <a:off x="2469960" y="516204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 flipV="1" rot="16200000">
            <a:off x="3608280" y="5499000"/>
            <a:ext cx="12240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 rot="16200000">
            <a:off x="2344680" y="54990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 rot="16200000">
            <a:off x="5503320" y="5499000"/>
            <a:ext cx="122400" cy="1220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 rot="16200000">
            <a:off x="6766920" y="5499000"/>
            <a:ext cx="122400" cy="1220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 rot="16200000">
            <a:off x="7400880" y="5499000"/>
            <a:ext cx="12240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>
            <a:stCxn id="647" idx="0"/>
            <a:endCxn id="644" idx="4"/>
          </p:cNvCxnSpPr>
          <p:nvPr/>
        </p:nvCxnSpPr>
        <p:spPr>
          <a:xfrm>
            <a:off x="62607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9" idx="0"/>
            <a:endCxn id="641" idx="4"/>
          </p:cNvCxnSpPr>
          <p:nvPr/>
        </p:nvCxnSpPr>
        <p:spPr>
          <a:xfrm>
            <a:off x="31017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1" idx="0"/>
            <a:endCxn id="651" idx="4"/>
          </p:cNvCxnSpPr>
          <p:nvPr/>
        </p:nvCxnSpPr>
        <p:spPr>
          <a:xfrm>
            <a:off x="37335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4" idx="0"/>
            <a:endCxn id="645" idx="4"/>
          </p:cNvCxnSpPr>
          <p:nvPr/>
        </p:nvCxnSpPr>
        <p:spPr>
          <a:xfrm>
            <a:off x="6892920" y="5562360"/>
            <a:ext cx="511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3" idx="0"/>
            <a:endCxn id="647" idx="4"/>
          </p:cNvCxnSpPr>
          <p:nvPr/>
        </p:nvCxnSpPr>
        <p:spPr>
          <a:xfrm>
            <a:off x="56289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 flipV="1" rot="16200000">
            <a:off x="1712880" y="5496480"/>
            <a:ext cx="122040" cy="12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 rot="16200000">
            <a:off x="2976480" y="5499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 rot="16200000">
            <a:off x="4240080" y="5499000"/>
            <a:ext cx="122400" cy="1224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871880" y="54990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 rot="16200000">
            <a:off x="6135120" y="5499000"/>
            <a:ext cx="122400" cy="122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6" name=""/>
          <p:cNvCxnSpPr>
            <a:stCxn id="654" idx="0"/>
            <a:endCxn id="642" idx="4"/>
          </p:cNvCxnSpPr>
          <p:nvPr/>
        </p:nvCxnSpPr>
        <p:spPr>
          <a:xfrm>
            <a:off x="1838160" y="556056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55" idx="0"/>
            <a:endCxn id="643" idx="4"/>
          </p:cNvCxnSpPr>
          <p:nvPr/>
        </p:nvCxnSpPr>
        <p:spPr>
          <a:xfrm>
            <a:off x="49971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0"/>
            <a:endCxn id="655" idx="4"/>
          </p:cNvCxnSpPr>
          <p:nvPr/>
        </p:nvCxnSpPr>
        <p:spPr>
          <a:xfrm>
            <a:off x="43653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2" idx="0"/>
            <a:endCxn id="649" idx="4"/>
          </p:cNvCxnSpPr>
          <p:nvPr/>
        </p:nvCxnSpPr>
        <p:spPr>
          <a:xfrm>
            <a:off x="2469960" y="5562360"/>
            <a:ext cx="510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 rot="18999600">
            <a:off x="6083280" y="3933360"/>
            <a:ext cx="266760" cy="266760"/>
          </a:xfrm>
          <a:prstGeom prst="plus">
            <a:avLst>
              <a:gd name="adj" fmla="val 34523"/>
            </a:avLst>
          </a:pr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8999600">
            <a:off x="4160880" y="4652640"/>
            <a:ext cx="266760" cy="266760"/>
          </a:xfrm>
          <a:prstGeom prst="plus">
            <a:avLst>
              <a:gd name="adj" fmla="val 34523"/>
            </a:avLst>
          </a:pr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8999600">
            <a:off x="5435640" y="5033520"/>
            <a:ext cx="266760" cy="266760"/>
          </a:xfrm>
          <a:prstGeom prst="plus">
            <a:avLst>
              <a:gd name="adj" fmla="val 34523"/>
            </a:avLst>
          </a:pr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510320" y="527688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257840" y="4221000"/>
            <a:ext cx="623520" cy="307080"/>
            <a:chOff x="1257840" y="4221000"/>
            <a:chExt cx="623520" cy="307080"/>
          </a:xfrm>
        </p:grpSpPr>
        <p:sp>
          <p:nvSpPr>
            <p:cNvPr id="665" name=""/>
            <p:cNvSpPr/>
            <p:nvPr/>
          </p:nvSpPr>
          <p:spPr>
            <a:xfrm>
              <a:off x="1654200" y="4281480"/>
              <a:ext cx="22716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1521000" y="435276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57840" y="422100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905480" y="4221000"/>
            <a:ext cx="623520" cy="307080"/>
            <a:chOff x="1905480" y="4221000"/>
            <a:chExt cx="623520" cy="307080"/>
          </a:xfrm>
        </p:grpSpPr>
        <p:sp>
          <p:nvSpPr>
            <p:cNvPr id="669" name=""/>
            <p:cNvSpPr/>
            <p:nvPr/>
          </p:nvSpPr>
          <p:spPr>
            <a:xfrm>
              <a:off x="2301840" y="4281480"/>
              <a:ext cx="22716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168280" y="43527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05480" y="422100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553120" y="4221000"/>
            <a:ext cx="623520" cy="307080"/>
            <a:chOff x="2553120" y="4221000"/>
            <a:chExt cx="623520" cy="307080"/>
          </a:xfrm>
        </p:grpSpPr>
        <p:sp>
          <p:nvSpPr>
            <p:cNvPr id="673" name=""/>
            <p:cNvSpPr/>
            <p:nvPr/>
          </p:nvSpPr>
          <p:spPr>
            <a:xfrm>
              <a:off x="2949480" y="4281480"/>
              <a:ext cx="22716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815920" y="43527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3120" y="422100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200760" y="4221000"/>
            <a:ext cx="623160" cy="307080"/>
            <a:chOff x="3200760" y="4221000"/>
            <a:chExt cx="623160" cy="307080"/>
          </a:xfrm>
        </p:grpSpPr>
        <p:sp>
          <p:nvSpPr>
            <p:cNvPr id="677" name=""/>
            <p:cNvSpPr/>
            <p:nvPr/>
          </p:nvSpPr>
          <p:spPr>
            <a:xfrm>
              <a:off x="3597120" y="4281480"/>
              <a:ext cx="22680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3463200" y="43527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00760" y="422100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850200" y="4221000"/>
            <a:ext cx="623520" cy="307080"/>
            <a:chOff x="3850200" y="4221000"/>
            <a:chExt cx="623520" cy="307080"/>
          </a:xfrm>
        </p:grpSpPr>
        <p:sp>
          <p:nvSpPr>
            <p:cNvPr id="681" name=""/>
            <p:cNvSpPr/>
            <p:nvPr/>
          </p:nvSpPr>
          <p:spPr>
            <a:xfrm>
              <a:off x="4246560" y="4281480"/>
              <a:ext cx="22716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13000" y="43527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0200" y="422100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497840" y="4221000"/>
            <a:ext cx="623520" cy="307080"/>
            <a:chOff x="4497840" y="4221000"/>
            <a:chExt cx="623520" cy="307080"/>
          </a:xfrm>
        </p:grpSpPr>
        <p:sp>
          <p:nvSpPr>
            <p:cNvPr id="685" name=""/>
            <p:cNvSpPr/>
            <p:nvPr/>
          </p:nvSpPr>
          <p:spPr>
            <a:xfrm>
              <a:off x="4894200" y="4281480"/>
              <a:ext cx="22716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760640" y="43527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97840" y="422100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435640" y="4221000"/>
            <a:ext cx="623160" cy="307080"/>
            <a:chOff x="5435640" y="4221000"/>
            <a:chExt cx="623160" cy="307080"/>
          </a:xfrm>
        </p:grpSpPr>
        <p:sp>
          <p:nvSpPr>
            <p:cNvPr id="689" name=""/>
            <p:cNvSpPr/>
            <p:nvPr/>
          </p:nvSpPr>
          <p:spPr>
            <a:xfrm>
              <a:off x="5435640" y="4281480"/>
              <a:ext cx="227160" cy="15084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662800" y="435276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28680" y="42210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0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500"/>
                            </p:stCondLst>
                            <p:childTnLst>
                              <p:par>
                                <p:cTn id="17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K Test Architecture,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82560" y="3718080"/>
            <a:ext cx="1297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1280" y="1628640"/>
            <a:ext cx="3240000" cy="187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put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82560" y="5448960"/>
            <a:ext cx="1297080" cy="6426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und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82560" y="1980360"/>
            <a:ext cx="129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57280" y="2859840"/>
            <a:ext cx="1549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ction It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96" idx="2"/>
            <a:endCxn id="697" idx="0"/>
          </p:cNvCxnSpPr>
          <p:nvPr/>
        </p:nvCxnSpPr>
        <p:spPr>
          <a:xfrm>
            <a:off x="2231640" y="2626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9" name=""/>
          <p:cNvSpPr/>
          <p:nvPr/>
        </p:nvSpPr>
        <p:spPr>
          <a:xfrm>
            <a:off x="1582560" y="4581360"/>
            <a:ext cx="129708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stCxn id="697" idx="2"/>
            <a:endCxn id="693" idx="0"/>
          </p:cNvCxnSpPr>
          <p:nvPr/>
        </p:nvCxnSpPr>
        <p:spPr>
          <a:xfrm>
            <a:off x="2231640" y="3506400"/>
            <a:ext cx="1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3" idx="2"/>
            <a:endCxn id="699" idx="0"/>
          </p:cNvCxnSpPr>
          <p:nvPr/>
        </p:nvCxnSpPr>
        <p:spPr>
          <a:xfrm>
            <a:off x="2231640" y="4365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9" idx="2"/>
            <a:endCxn id="695" idx="0"/>
          </p:cNvCxnSpPr>
          <p:nvPr/>
        </p:nvCxnSpPr>
        <p:spPr>
          <a:xfrm>
            <a:off x="2231640" y="5229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3" name=""/>
          <p:cNvSpPr/>
          <p:nvPr/>
        </p:nvSpPr>
        <p:spPr>
          <a:xfrm>
            <a:off x="3241800" y="2230560"/>
            <a:ext cx="14436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41800" y="2374920"/>
            <a:ext cx="14436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05440" y="2856600"/>
            <a:ext cx="187164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chroniza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>
            <a:stCxn id="696" idx="3"/>
            <a:endCxn id="705" idx="0"/>
          </p:cNvCxnSpPr>
          <p:nvPr/>
        </p:nvCxnSpPr>
        <p:spPr>
          <a:xfrm>
            <a:off x="2879640" y="2301840"/>
            <a:ext cx="2162880" cy="551520"/>
          </a:xfrm>
          <a:prstGeom prst="bentConnector2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705" idx="1"/>
            <a:endCxn id="697" idx="3"/>
          </p:cNvCxnSpPr>
          <p:nvPr/>
        </p:nvCxnSpPr>
        <p:spPr>
          <a:xfrm flipH="1">
            <a:off x="3006360" y="3177720"/>
            <a:ext cx="1099440" cy="39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6842160" y="5448240"/>
            <a:ext cx="1297080" cy="647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tion 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9" name=""/>
          <p:cNvCxnSpPr>
            <a:stCxn id="695" idx="3"/>
            <a:endCxn id="708" idx="1"/>
          </p:cNvCxnSpPr>
          <p:nvPr/>
        </p:nvCxnSpPr>
        <p:spPr>
          <a:xfrm>
            <a:off x="2879280" y="5770080"/>
            <a:ext cx="3963240" cy="2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2881440" y="4906800"/>
            <a:ext cx="17287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10160" y="3506400"/>
            <a:ext cx="0" cy="1400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"/>
          <p:cNvCxnSpPr>
            <a:stCxn id="708" idx="0"/>
            <a:endCxn id="713" idx="2"/>
          </p:cNvCxnSpPr>
          <p:nvPr/>
        </p:nvCxnSpPr>
        <p:spPr>
          <a:xfrm flipV="1">
            <a:off x="7490880" y="3503160"/>
            <a:ext cx="1080" cy="1945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14" name=""/>
          <p:cNvSpPr/>
          <p:nvPr/>
        </p:nvSpPr>
        <p:spPr>
          <a:xfrm>
            <a:off x="3457440" y="2230560"/>
            <a:ext cx="14472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57440" y="2374920"/>
            <a:ext cx="14472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"/>
          <p:cNvCxnSpPr>
            <a:stCxn id="697" idx="2"/>
            <a:endCxn id="699" idx="0"/>
          </p:cNvCxnSpPr>
          <p:nvPr/>
        </p:nvCxnSpPr>
        <p:spPr>
          <a:xfrm>
            <a:off x="2231640" y="3506400"/>
            <a:ext cx="1080" cy="10753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717" name=""/>
          <p:cNvGrpSpPr/>
          <p:nvPr/>
        </p:nvGrpSpPr>
        <p:grpSpPr>
          <a:xfrm>
            <a:off x="7418520" y="4633560"/>
            <a:ext cx="144360" cy="360360"/>
            <a:chOff x="7418520" y="4633560"/>
            <a:chExt cx="144360" cy="360360"/>
          </a:xfrm>
        </p:grpSpPr>
        <p:sp>
          <p:nvSpPr>
            <p:cNvPr id="718" name=""/>
            <p:cNvSpPr/>
            <p:nvPr/>
          </p:nvSpPr>
          <p:spPr>
            <a:xfrm flipV="1">
              <a:off x="7418520" y="4778280"/>
              <a:ext cx="0" cy="215640"/>
            </a:xfrm>
            <a:prstGeom prst="line">
              <a:avLst/>
            </a:prstGeom>
            <a:ln w="9360">
              <a:solidFill>
                <a:srgbClr val="00007d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7562880" y="4778280"/>
              <a:ext cx="0" cy="215640"/>
            </a:xfrm>
            <a:prstGeom prst="line">
              <a:avLst/>
            </a:prstGeom>
            <a:ln w="9360">
              <a:solidFill>
                <a:srgbClr val="00007d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418520" y="4633560"/>
              <a:ext cx="0" cy="144720"/>
            </a:xfrm>
            <a:prstGeom prst="line">
              <a:avLst/>
            </a:prstGeom>
            <a:ln w="9360">
              <a:solidFill>
                <a:srgbClr val="00007d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7562880" y="4633560"/>
              <a:ext cx="0" cy="144720"/>
            </a:xfrm>
            <a:prstGeom prst="line">
              <a:avLst/>
            </a:prstGeom>
            <a:ln w="9360">
              <a:solidFill>
                <a:srgbClr val="00007d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418520" y="4778280"/>
              <a:ext cx="144360" cy="215640"/>
            </a:xfrm>
            <a:prstGeom prst="line">
              <a:avLst/>
            </a:prstGeom>
            <a:ln w="9360">
              <a:solidFill>
                <a:srgbClr val="00007d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6770520" y="2855880"/>
            <a:ext cx="14414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ia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>
            <a:stCxn id="705" idx="3"/>
            <a:endCxn id="713" idx="1"/>
          </p:cNvCxnSpPr>
          <p:nvPr/>
        </p:nvCxnSpPr>
        <p:spPr>
          <a:xfrm>
            <a:off x="5977080" y="3177720"/>
            <a:ext cx="794160" cy="2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H="1">
            <a:off x="6300360" y="3357720"/>
            <a:ext cx="469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300720" y="335772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97760" y="2482920"/>
            <a:ext cx="14436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97760" y="2627280"/>
            <a:ext cx="14436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313760" y="2482920"/>
            <a:ext cx="144360" cy="0"/>
          </a:xfrm>
          <a:prstGeom prst="line">
            <a:avLst/>
          </a:prstGeom>
          <a:ln w="9360">
            <a:solidFill>
              <a:srgbClr val="00007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313760" y="2627280"/>
            <a:ext cx="144360" cy="0"/>
          </a:xfrm>
          <a:prstGeom prst="line">
            <a:avLst/>
          </a:prstGeom>
          <a:ln w="9360">
            <a:solidFill>
              <a:srgbClr val="00007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29400" y="2482920"/>
            <a:ext cx="14472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529400" y="2627280"/>
            <a:ext cx="144720" cy="0"/>
          </a:xfrm>
          <a:prstGeom prst="line">
            <a:avLst/>
          </a:prstGeom>
          <a:ln w="9360">
            <a:solidFill>
              <a:srgbClr val="00007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745400" y="2627280"/>
            <a:ext cx="14436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631640" y="23446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51600" y="247644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484360" y="522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71720" y="5084640"/>
            <a:ext cx="4176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048440" y="349992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248440" y="5013360"/>
            <a:ext cx="331560" cy="0"/>
            <a:chOff x="5248440" y="5013360"/>
            <a:chExt cx="331560" cy="0"/>
          </a:xfrm>
        </p:grpSpPr>
        <p:sp>
          <p:nvSpPr>
            <p:cNvPr id="739" name=""/>
            <p:cNvSpPr/>
            <p:nvPr/>
          </p:nvSpPr>
          <p:spPr>
            <a:xfrm>
              <a:off x="5435640" y="5013360"/>
              <a:ext cx="14436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48440" y="5013360"/>
              <a:ext cx="144360" cy="0"/>
            </a:xfrm>
            <a:prstGeom prst="line">
              <a:avLst/>
            </a:prstGeom>
            <a:ln w="9360">
              <a:solidFill>
                <a:srgbClr val="00007d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21480" y="3716280"/>
            <a:ext cx="1258560" cy="753840"/>
            <a:chOff x="321480" y="3716280"/>
            <a:chExt cx="1258560" cy="753840"/>
          </a:xfrm>
        </p:grpSpPr>
        <p:sp>
          <p:nvSpPr>
            <p:cNvPr id="742" name=""/>
            <p:cNvSpPr/>
            <p:nvPr/>
          </p:nvSpPr>
          <p:spPr>
            <a:xfrm>
              <a:off x="744480" y="3860640"/>
              <a:ext cx="432000" cy="286920"/>
            </a:xfrm>
            <a:prstGeom prst="flowChartDecision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8840" y="400500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528840" y="400500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177920" y="400500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60480" y="371628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1480" y="410184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Wingdings 2"/>
                  <a:ea typeface="Wingdings 2"/>
                </a:rPr>
                <a:t>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07440" y="41018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93920" y="400500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84360" y="2205000"/>
            <a:ext cx="574560" cy="878760"/>
            <a:chOff x="684360" y="2205000"/>
            <a:chExt cx="574560" cy="878760"/>
          </a:xfrm>
        </p:grpSpPr>
        <p:sp>
          <p:nvSpPr>
            <p:cNvPr id="751" name=""/>
            <p:cNvSpPr/>
            <p:nvPr/>
          </p:nvSpPr>
          <p:spPr>
            <a:xfrm>
              <a:off x="971280" y="2420640"/>
              <a:ext cx="0" cy="2160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71280" y="27079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6920" y="2427120"/>
              <a:ext cx="0" cy="216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rot="16200000">
              <a:off x="895320" y="1993680"/>
              <a:ext cx="152280" cy="57456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14760 h 574560"/>
                <a:gd name="textAreaBottom" fmla="*/ 5598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 rot="5400000">
              <a:off x="895320" y="2719800"/>
              <a:ext cx="152280" cy="57456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14760 h 574560"/>
                <a:gd name="textAreaBottom" fmla="*/ 5598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16000" y="2715840"/>
              <a:ext cx="0" cy="2160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6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207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9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80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8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0.42153 -1.85185E-006 E">
                                      <p:cBhvr>
                                        <p:cTn id="2119" dur="1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500"/>
                            </p:stCondLst>
                            <p:childTnLst>
                              <p:par>
                                <p:cTn id="2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500"/>
                            </p:stCondLst>
                            <p:childTnLst>
                              <p:par>
                                <p:cTn id="2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K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@T (C++ Lin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(C++) / NetBeans, Eclipse (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e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/ Visual Studio 6.0, g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@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# / Visual Studio .NET 7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tool for compile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uperv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it-Ter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esK, Feb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xoft (IBS grou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@T, Ju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K, Nov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0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4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8" dur="10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2" dur="1000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6" dur="10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1" dur="1000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5" dur="10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9" dur="1000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3" dur="1000"/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implementations   -  2001-200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v6 (in Windows CE 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compilers              -   2001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client management system in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application develop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7667640" y="2637000"/>
            <a:ext cx="1076400" cy="2473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7236000" y="3933720"/>
            <a:ext cx="168588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 Kuliamin, A. Petrenko, N. Pakoulin, I. Bourdonov, and A. Kossatchev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gration of Functional and Timed Testing of Real-time and Concurrent System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. of PSI 2003. LNCS, Springer-Verlag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 Kuliamin, A. Petrenko, I. Bourdonov, and A. Kossatchev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TesK Test Suite Architectur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. of FME 2002. LNCS 2391, pp. 77-88, Springer-Verlag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K. Petrenko, I. B. Bourdonov, A. S. Kossatchev, V. V. Kuliam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periences in using testing tools and technology in real-life application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edings of SETT’01, India, Pune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 B. Bourdonov, A. S. Kossatchev, V. V. Kuliam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ing Finite State Machines in Program Testin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"Programmirovanije", 2000, No. 2 (in Russian). Programming and Computer Software, Vol. 26, No. 2, 2000, pp. 61-73 (English ver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 Bourdonov, A. Kossatchev, A. Petrenko, and D. Galter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VEST: Automated Generation of Test Suites from Formal Specification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edings of World Congress of Formal Methods, Toulouse, France, LNCS, No. 1708, 1999, pp. 608-6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.ispras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groups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v/rv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tor V. Kuliamin               Alexander K. Petr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uliamin@ispras.ru, petrenko@ispra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004, B. Kommunisticheskaya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cow,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:    http://www.ispras.ru/groups/rv/rv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007-095-91253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007-095-91215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K Test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2360" y="1844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003560"/>
            <a:ext cx="552240" cy="478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4003560"/>
            <a:ext cx="552600" cy="47808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4003560"/>
            <a:ext cx="552600" cy="47808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4003560"/>
            <a:ext cx="552240" cy="47808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3500280"/>
            <a:ext cx="552600" cy="478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3500280"/>
            <a:ext cx="552240" cy="4780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3500280"/>
            <a:ext cx="552600" cy="4780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2995560"/>
            <a:ext cx="552600" cy="477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2995560"/>
            <a:ext cx="552600" cy="47772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492280"/>
            <a:ext cx="552240" cy="4780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3080" y="45068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und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5600" y="27813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11600" y="2774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989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526600">
            <a:off x="2556000" y="2420640"/>
            <a:ext cx="976320" cy="485640"/>
          </a:xfrm>
          <a:prstGeom prst="leftRightArrow">
            <a:avLst>
              <a:gd name="adj1" fmla="val 50000"/>
              <a:gd name="adj2" fmla="val 40021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18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9240" y="3141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2276640"/>
            <a:ext cx="53964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70920" y="2276640"/>
            <a:ext cx="539640" cy="46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00920" y="1809720"/>
            <a:ext cx="539640" cy="46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3573360"/>
            <a:ext cx="0" cy="647640"/>
          </a:xfrm>
          <a:prstGeom prst="line">
            <a:avLst/>
          </a:prstGeom>
          <a:ln w="889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472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740000" y="4724280"/>
            <a:ext cx="152280" cy="914400"/>
          </a:xfrm>
          <a:custGeom>
            <a:avLst/>
            <a:gdLst>
              <a:gd name="textAreaLeft" fmla="*/ 96840 w 152280"/>
              <a:gd name="textAreaRight" fmla="*/ 1522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77080" y="4941720"/>
            <a:ext cx="216000" cy="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77080" y="5157720"/>
            <a:ext cx="216000" cy="0"/>
          </a:xfrm>
          <a:prstGeom prst="line">
            <a:avLst/>
          </a:prstGeom>
          <a:ln w="190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164360" y="5157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164360" y="5373720"/>
            <a:ext cx="2160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451640" y="4941720"/>
            <a:ext cx="216000" cy="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451640" y="5373720"/>
            <a:ext cx="2160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5445000"/>
            <a:ext cx="432000" cy="287640"/>
          </a:xfrm>
          <a:prstGeom prst="flowChartDecision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08360" y="5157720"/>
            <a:ext cx="718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558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211280" y="558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16520" y="1657440"/>
            <a:ext cx="1253880" cy="1115640"/>
            <a:chOff x="4016520" y="1657440"/>
            <a:chExt cx="1253880" cy="1115640"/>
          </a:xfrm>
        </p:grpSpPr>
        <p:sp>
          <p:nvSpPr>
            <p:cNvPr id="166" name=""/>
            <p:cNvSpPr/>
            <p:nvPr/>
          </p:nvSpPr>
          <p:spPr>
            <a:xfrm flipV="1">
              <a:off x="4816440" y="2125800"/>
              <a:ext cx="179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552920" y="1662120"/>
              <a:ext cx="179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091120" y="2593440"/>
              <a:ext cx="17928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16520" y="2301840"/>
              <a:ext cx="539640" cy="466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54360" y="2301840"/>
              <a:ext cx="540000" cy="466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84720" y="1835280"/>
              <a:ext cx="539640" cy="4665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1400" y="1657440"/>
              <a:ext cx="53964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43440" y="5497560"/>
            <a:ext cx="195120" cy="195120"/>
          </a:xfrm>
          <a:prstGeom prst="plus">
            <a:avLst>
              <a:gd name="adj" fmla="val 38222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61080" y="5661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4724280"/>
            <a:ext cx="432000" cy="287280"/>
          </a:xfrm>
          <a:prstGeom prst="flowChartDecision">
            <a:avLst/>
          </a:prstGeom>
          <a:gradFill rotWithShape="0">
            <a:gsLst>
              <a:gs pos="0">
                <a:srgbClr val="9999ff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211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00000">
            <a:off x="4951080" y="4778280"/>
            <a:ext cx="195480" cy="195120"/>
          </a:xfrm>
          <a:prstGeom prst="plus">
            <a:avLst>
              <a:gd name="adj" fmla="val 38222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700000">
            <a:off x="4941360" y="5497560"/>
            <a:ext cx="195120" cy="195480"/>
          </a:xfrm>
          <a:prstGeom prst="plus">
            <a:avLst>
              <a:gd name="adj" fmla="val 38222"/>
            </a:avLst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058920" y="4579560"/>
            <a:ext cx="936360" cy="289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4797360"/>
            <a:ext cx="936720" cy="287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573360"/>
            <a:ext cx="0" cy="647640"/>
          </a:xfrm>
          <a:prstGeom prst="line">
            <a:avLst/>
          </a:prstGeom>
          <a:ln w="889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581000" y="4508640"/>
            <a:ext cx="35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67400" y="580536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Correctness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15034 0.19375 E">
                                      <p:cBhvr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1181 L 0.14184 0.40671 E">
                                      <p:cBhvr>
                                        <p:cTn id="122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08360" y="2328840"/>
            <a:ext cx="1800360" cy="6494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3141720"/>
            <a:ext cx="1584360" cy="649080"/>
          </a:xfrm>
          <a:prstGeom prst="hexagon">
            <a:avLst>
              <a:gd name="adj" fmla="val 13448"/>
              <a:gd name="vf" fmla="val 115470"/>
            </a:avLst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Qualit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916280"/>
            <a:ext cx="1656000" cy="1042920"/>
          </a:xfrm>
          <a:prstGeom prst="cloudCallout">
            <a:avLst>
              <a:gd name="adj1" fmla="val -32740"/>
              <a:gd name="adj2" fmla="val 52129"/>
            </a:avLst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1233360"/>
            <a:ext cx="1800360" cy="648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3081960"/>
            <a:ext cx="180036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4104360"/>
            <a:ext cx="1593720" cy="856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cccce6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und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825720"/>
            <a:ext cx="1800360" cy="6494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4924440"/>
            <a:ext cx="1800360" cy="6494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65720" y="1954080"/>
            <a:ext cx="485640" cy="328680"/>
          </a:xfrm>
          <a:prstGeom prst="downArrow">
            <a:avLst>
              <a:gd name="adj1" fmla="val 49676"/>
              <a:gd name="adj2" fmla="val 507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65720" y="4530600"/>
            <a:ext cx="485640" cy="328680"/>
          </a:xfrm>
          <a:prstGeom prst="downArrow">
            <a:avLst>
              <a:gd name="adj1" fmla="val 49676"/>
              <a:gd name="adj2" fmla="val 507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3440" y="2341440"/>
            <a:ext cx="1506600" cy="623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havior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3440" y="3090960"/>
            <a:ext cx="1506600" cy="623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3440" y="3838680"/>
            <a:ext cx="1506600" cy="623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87" idx="3"/>
            <a:endCxn id="198" idx="1"/>
          </p:cNvCxnSpPr>
          <p:nvPr/>
        </p:nvCxnSpPr>
        <p:spPr>
          <a:xfrm>
            <a:off x="5508720" y="26539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2" idx="3"/>
            <a:endCxn id="199" idx="1"/>
          </p:cNvCxnSpPr>
          <p:nvPr/>
        </p:nvCxnSpPr>
        <p:spPr>
          <a:xfrm>
            <a:off x="5508720" y="340308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3"/>
            <a:endCxn id="200" idx="1"/>
          </p:cNvCxnSpPr>
          <p:nvPr/>
        </p:nvCxnSpPr>
        <p:spPr>
          <a:xfrm>
            <a:off x="5508720" y="415080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6012000" y="5267160"/>
            <a:ext cx="1506240" cy="623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95" idx="3"/>
            <a:endCxn id="204" idx="1"/>
          </p:cNvCxnSpPr>
          <p:nvPr/>
        </p:nvCxnSpPr>
        <p:spPr>
          <a:xfrm>
            <a:off x="5508720" y="5249520"/>
            <a:ext cx="50400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0" idx="0"/>
            <a:endCxn id="191" idx="1"/>
          </p:cNvCxnSpPr>
          <p:nvPr/>
        </p:nvCxnSpPr>
        <p:spPr>
          <a:xfrm flipV="1">
            <a:off x="2841480" y="1556640"/>
            <a:ext cx="86760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0" idx="1"/>
            <a:endCxn id="187" idx="1"/>
          </p:cNvCxnSpPr>
          <p:nvPr/>
        </p:nvCxnSpPr>
        <p:spPr>
          <a:xfrm>
            <a:off x="2841480" y="2438280"/>
            <a:ext cx="8676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3" idx="4"/>
            <a:endCxn id="194" idx="1"/>
          </p:cNvCxnSpPr>
          <p:nvPr/>
        </p:nvCxnSpPr>
        <p:spPr>
          <a:xfrm flipV="1">
            <a:off x="2644920" y="4150800"/>
            <a:ext cx="106416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3" idx="4"/>
            <a:endCxn id="195" idx="1"/>
          </p:cNvCxnSpPr>
          <p:nvPr/>
        </p:nvCxnSpPr>
        <p:spPr>
          <a:xfrm>
            <a:off x="2644920" y="4637160"/>
            <a:ext cx="10641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1258920" y="1246320"/>
            <a:ext cx="1506600" cy="623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0" idx="3"/>
            <a:endCxn id="191" idx="1"/>
          </p:cNvCxnSpPr>
          <p:nvPr/>
        </p:nvCxnSpPr>
        <p:spPr>
          <a:xfrm flipV="1">
            <a:off x="2765160" y="1557000"/>
            <a:ext cx="94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3708360" y="6019920"/>
            <a:ext cx="1800360" cy="6490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esults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65720" y="5626080"/>
            <a:ext cx="485640" cy="328680"/>
          </a:xfrm>
          <a:prstGeom prst="downArrow">
            <a:avLst>
              <a:gd name="adj1" fmla="val 49676"/>
              <a:gd name="adj2" fmla="val 507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04" idx="1"/>
            <a:endCxn id="212" idx="3"/>
          </p:cNvCxnSpPr>
          <p:nvPr/>
        </p:nvCxnSpPr>
        <p:spPr>
          <a:xfrm flipH="1">
            <a:off x="5508360" y="5580000"/>
            <a:ext cx="5040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867280" y="2170080"/>
            <a:ext cx="1800360" cy="2448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448000"/>
              <a:gd name="textAreaBottom" fmla="*/ 2360160 h 2448000"/>
            </a:gdLst>
            <a:ahLst/>
            <a:rect l="textAreaLeft" t="textAreaTop" r="textAreaRight" b="textAreaBottom"/>
            <a:pathLst>
              <a:path w="21600" h="29369">
                <a:moveTo>
                  <a:pt x="3600" y="0"/>
                </a:moveTo>
                <a:arcTo wR="3600" hR="3600" stAng="16200000" swAng="-5400000"/>
                <a:lnTo>
                  <a:pt x="0" y="25769"/>
                </a:lnTo>
                <a:arcTo wR="3600" hR="3600" stAng="10800000" swAng="-5400000"/>
                <a:lnTo>
                  <a:pt x="18000" y="29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5" idx="2"/>
            <a:endCxn id="195" idx="3"/>
          </p:cNvCxnSpPr>
          <p:nvPr/>
        </p:nvCxnSpPr>
        <p:spPr>
          <a:xfrm flipH="1">
            <a:off x="5508000" y="4633560"/>
            <a:ext cx="125964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89" idx="3"/>
            <a:endCxn id="192" idx="1"/>
          </p:cNvCxnSpPr>
          <p:nvPr/>
        </p:nvCxnSpPr>
        <p:spPr>
          <a:xfrm flipV="1">
            <a:off x="2771640" y="3402720"/>
            <a:ext cx="937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885080" y="2421000"/>
            <a:ext cx="57780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5080" y="3141720"/>
            <a:ext cx="576360" cy="498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implify transformation of requirements into formal specif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inimize human involvement in test development, but make it possible in necessary po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upport a large variety of problem domains and test completeness crite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couple tests and implementation, but keep them working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testing quality without implem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2781360"/>
            <a:ext cx="2449440" cy="936720"/>
          </a:xfrm>
          <a:prstGeom prst="wedgeRoundRectCallout">
            <a:avLst>
              <a:gd name="adj1" fmla="val -67564"/>
              <a:gd name="adj2" fmla="val -77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easier their usage for ordinary software engin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2781360"/>
            <a:ext cx="2449440" cy="936720"/>
          </a:xfrm>
          <a:prstGeom prst="wedgeRoundRectCallout">
            <a:avLst>
              <a:gd name="adj1" fmla="val 35222"/>
              <a:gd name="adj2" fmla="val -7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relation between them more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557360"/>
            <a:ext cx="2449800" cy="936720"/>
          </a:xfrm>
          <a:prstGeom prst="wedgeRoundRectCallout">
            <a:avLst>
              <a:gd name="adj1" fmla="val -24013"/>
              <a:gd name="adj2" fmla="val 996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crease productivity, but not to loose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0920" y="4941720"/>
            <a:ext cx="2449800" cy="936720"/>
          </a:xfrm>
          <a:prstGeom prst="wedgeRoundRectCallout">
            <a:avLst>
              <a:gd name="adj1" fmla="val 33796"/>
              <a:gd name="adj2" fmla="val -7457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possible early start of tes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4941720"/>
            <a:ext cx="2449800" cy="936720"/>
          </a:xfrm>
          <a:prstGeom prst="wedgeRoundRectCallout">
            <a:avLst>
              <a:gd name="adj1" fmla="val -72231"/>
              <a:gd name="adj2" fmla="val -74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specifications and tests more reu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K Manif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simplification of MB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on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ion to current industri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widely us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widely used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@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@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0582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0:47:08Z</dcterms:created>
  <dc:creator>Victor Kuliamin</dc:creator>
  <dc:description/>
  <dc:language>en-US</dc:language>
  <cp:lastModifiedBy>Victor Kuliamin</cp:lastModifiedBy>
  <dcterms:modified xsi:type="dcterms:W3CDTF">2003-12-15T11:27:29Z</dcterms:modified>
  <cp:revision>59</cp:revision>
  <dc:subject/>
  <dc:title>Slide 1</dc:title>
</cp:coreProperties>
</file>